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840-D488-4D46-9477-8D33C0DB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48F-B670-44FC-A747-77504407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60A-A8C1-465B-AC41-F5C1F0AA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B10-F07D-46FF-825D-B7710D9E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501D-DFAB-47B7-B237-5B3709E3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B57-2BDB-4B34-A852-FF46A848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EF4-81BB-4855-8CB1-D817B72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B104-2EB5-491F-A428-8C31DF0F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27E-066A-4903-A05A-6C5A046F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1B8-C9C8-4F73-9D53-F04EC12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537-C6E0-46BF-BE98-46DB686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9B4-0C71-4060-BF8D-6402AE2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F56-9DCB-4154-A96D-A205461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901F-3796-41A6-9FE6-97E118C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45DB-FA80-40C4-BF7E-1EA568E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A7F-D259-4522-B10F-7A1617B4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13F6-3B70-424D-8576-63967923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733-A0DD-4817-9E80-E4AB2352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44D-CD4A-468B-80A5-95B0B840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FB0-1F06-4AA1-A07F-9FC18D7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89E-20F1-43CF-8692-C8EAF2B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8B2-D47D-4182-A331-2F67CA5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728-9F4D-4B92-B75F-8FF66386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FAE-0293-412C-8ED7-77D8294E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4622-6AF0-4855-875F-36167DD8C56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37A-7775-4B7C-A657-3EF56671BEC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1" i="1" lang="pt-BR" sz="56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br>
              <a:rPr sz="5600"/>
            </a:br>
            <a:br>
              <a:rPr sz="5600"/>
            </a:br>
            <a:r>
              <a:rPr b="1" i="1" lang="pt-BR" sz="4800" spc="-1" strike="noStrike">
                <a:solidFill>
                  <a:srgbClr val="ffcc66"/>
                </a:solidFill>
                <a:latin typeface="Arial"/>
              </a:rPr>
              <a:t>RESULTADOS PARCIAIS DO GRUPO DE TRABALHO DE BARRAGENS DE REJEITO</a:t>
            </a:r>
            <a:br>
              <a:rPr sz="4800"/>
            </a:br>
            <a:br>
              <a:rPr sz="76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C8D9-51FA-4AC6-A482-DB3CEF21D1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Objetivo da Apresent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resultados parciais GT Barragens de reje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or e aprovar alteração dos objetivos ini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EF8-2C50-498D-9D7F-F2F13DE1B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icio: palestra do DNPM (Alexandre) sobre Barragens de Rejeito na Min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ção de GT para elaboração de Proposta de Mo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zação de 3 reuniões de traba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ção de nova proposta de objetivo do G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 atuais: SRH/MMA, ANA, Ministério dos Transportes, DNP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ustificativa de mudança: improdutividade, em geral sem resultado, perpetua ações desarticu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CFB-EE40-4FE8-B790-9ED52CDD1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Objetivo Pretendido para o G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r proposta de construção/criação de Rede de Articulação e Comissão Gestora. Moção de encaminh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: SRH/MMA, ANA, DNPM, IBAMA, CONFEA, Ministério dos Transportes, Comitê Brasileiro de Barragens, Representantes ambientais estaduais, outros a serem identificados ou que quiserem particip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1CE-F829-4C93-B471-24C2A0A93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Rede de articulação - Obje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ticular e acompanhar a evolução dos assuntos ligados à gestão da segurança de barragens de rejeito e encaminhar propostas de procedimentos integrados para problemas diagnosti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3A2-5E22-4448-8475-BE24C07F14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Rede de articulação – Comissão Gesto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RH/MMA – Articulador execu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B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Órgãos ambientais estad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nir normas de atuação/regiment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DD2-FEA0-47FA-AE1E-68031B854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Rede de articulação – Desenho Inic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post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os os órgãos mantém suas funções, fortalec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stro com alimentação permanente (barragens prevista, em construção, em atividade, abando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cedimentos integrados de acordo com competências das institui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unicação permanente e contato direto entre atores normalmente desconhec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pela internet, aberta a 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imentação mediante sen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dutos, ma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ção junto ao CNRH/CON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outorga do projeto, licenci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8CA-F5D5-4416-A0AB-5BCE1FA27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676520" y="0"/>
            <a:ext cx="6858000" cy="6858000"/>
            <a:chOff x="1676520" y="0"/>
            <a:chExt cx="6858000" cy="6858000"/>
          </a:xfrm>
        </p:grpSpPr>
        <p:sp>
          <p:nvSpPr>
            <p:cNvPr id="102" name=""/>
            <p:cNvSpPr/>
            <p:nvPr/>
          </p:nvSpPr>
          <p:spPr>
            <a:xfrm>
              <a:off x="3819600" y="806760"/>
              <a:ext cx="1571400" cy="9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99"/>
                  </a:solidFill>
                  <a:latin typeface="Verdana"/>
                </a:rPr>
                <a:t>Rede de Articul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9440" y="0"/>
              <a:ext cx="114300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adast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(IBAM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2554920"/>
              <a:ext cx="128592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c99ff"/>
                  </a:solidFill>
                  <a:latin typeface="Verdana"/>
                </a:rPr>
                <a:t>Comissão Gesto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6520" y="941400"/>
              <a:ext cx="142884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Diagnóstico e Açõ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9440" y="215136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Produ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9760" y="1342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3630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34360" y="309276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Feder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303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34360" y="376488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Estad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510984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360" y="457200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Municip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916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77280" y="537876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O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68580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4360" y="6320160"/>
              <a:ext cx="20001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Comitês de Ba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62680" y="10756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Even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9760" y="201708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omunic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33840" y="18824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105360" y="1748160"/>
              <a:ext cx="5713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8280" y="120996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8280" y="403200"/>
              <a:ext cx="42840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91360" y="403200"/>
              <a:ext cx="28548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4280" y="12099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8440" y="1882440"/>
              <a:ext cx="42840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3840" y="3764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443736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3840" y="524448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33840" y="60512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13D-0EEC-4580-884F-4A15A2BAB2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Próximas aç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convite ao IBAMA, CONFEA e outros que se determina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pergunta ao CONFEA ou outros determin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erfeiçoamento desenho inicial a aprtir de propo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495-99AC-4DDF-928F-6F140DDAA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59:54Z</dcterms:created>
  <dc:creator>Francis Vargas</dc:creator>
  <dc:description/>
  <dc:language>en-US</dc:language>
  <cp:lastModifiedBy>Francis Priscilla</cp:lastModifiedBy>
  <dcterms:modified xsi:type="dcterms:W3CDTF">2003-08-12T14:49:35Z</dcterms:modified>
  <cp:revision>224</cp:revision>
  <dc:subject/>
  <dc:title>Águas Subterrãmeas</dc:title>
</cp:coreProperties>
</file>